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dt" idx="7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 type="ftr" idx="7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 type="sldNum" idx="7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AF98-958E-44A4-AAEC-1A68ECB4D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0802-2355-48E7-8A31-7A647546F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PA is an agency of the United States Department of Defense responsible for the new technology development for use by the military.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initial purpose is to find ways to address the US military’s concern about survivability of their communication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 1970s ARPANET became the foundation of today’s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Vinton Cerf and Robert Kahn developed the first description of TCP during 1973, and then in May 1974 the first formal description was publis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ICPA : American Institute of Certified Public Accoun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880C-373A-415F-BDD5-84C61CFB6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 : by Carol L. Cook; “How Computers Have Simplified Accounting”; http://www.yale.edu/ynhti/curriculum/units/1989/7/89.07.06.x.html#e; 18/0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B985-D652-420D-9B13-95DF7B53A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*) : by Carol L. Cook; “How Computers Have Simplified Accounting”; http://www.yale.edu/ynhti/curriculum/units/1989/7/89.07.06.x.html#e; 18/05/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4143-D933-4F22-8E31-BA7C9F18C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68B-C9DF-4895-B6E7-06CE3336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7E4-07CC-4937-880C-C3355B26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D2320-1E9C-4B64-A2B9-0A0AD88A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D2C13-0EEB-470A-8DF3-7506409A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5EDEB-20BC-4040-9260-FD62AD21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A3404-3E0F-4C67-A783-34E3D66B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AA994-0C56-44DF-B6E8-EFB56145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050E3-9286-4D0E-A05E-E354E793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F8A76-3D96-4EA2-BBA5-D555EE35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D254E-F89D-4DC7-A97D-D75C262B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AB71C-95F0-4A8D-BFED-9C9CC480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6D33D-CD81-4DD0-BA85-C1B94A56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847-D4DD-4383-A963-6BB98483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8B802-4B2E-4D1E-8E6F-5245F417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675CE-23BD-4DFD-896D-D819C030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B69EB-04B0-42B3-A643-F50D26C9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7FA67-7926-4CD4-9C28-D93F2CE9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5ACE1-CE38-4026-B4C6-A61077FE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C0D06-7809-47D3-BC30-C2FB5787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BCFB8-76D9-4E3C-BAFD-D9D083B2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D9A03-2B33-4342-847B-262B892D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71396-22BD-4F42-9F59-52747D24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2AFC1-41F5-4612-A95C-8FBD4DA8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D3D-70CF-4088-ABD9-E4970F9C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51232-0EB0-4048-9C73-55249FE2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3A464-5D71-410C-8AB6-2B164186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701AC-26F2-47D3-9EFB-6CCC8C93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97B89-8374-4D29-9979-820806E2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00BEF-F2D2-4A73-8D02-79ACD9CB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D3BE7-9DAA-40BC-B319-54E59EB8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FB2F8-04B4-44F2-8480-39C00C8D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E8AFC-50B2-405E-97FD-E52B783D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4ACD3-406A-4D6C-87F1-45F0C36F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46D66-03E4-4A19-A8D6-35260267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6993-F9B0-4DFB-AED6-88096B91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EACF9-4312-48EA-A88F-56B6A5E1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730E4-5D17-4DB6-9592-2429378D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BD282-7D8E-4FFA-B2E5-D71A1A0D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3E2D5-614F-48C2-B37D-C202D501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53A4B-2FF2-456B-897E-1D7B5628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8F394-B2D3-45A2-9FC9-71F7B0C4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BCDB8-9432-40EE-AB2F-2FE04472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A4D6B-5C27-4569-92E0-DA5FF0E0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5100C-E0B7-4838-ABEB-16E2A035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92996-FB06-4DC1-875D-472A04D3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F804-ADE6-4F80-B403-31E7FA65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FFF0E-558A-403D-AB73-BDC2345F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5D95A-FA1B-4952-B2CF-A68C87AD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3BE7E-2C03-441D-80EB-28CA5A34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D9360-50FD-4E3A-8AD8-EB48A232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F5CA9-2678-428A-A8FD-18A83A4D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02A1A-6FD2-4485-A4F8-1A9E735F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7EFBA-D5EC-4B51-B737-306257B3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69C9E9-FD46-4C75-A55A-953B3446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3DADC-A70F-40E4-847B-8F2F33FF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67D5F-BD47-4F73-B9AB-7C4F8A50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E26F-E134-4005-94C7-1EE5BF8A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BCF00-035D-4AC6-A1F3-F8FAD0F9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820B5-1C2D-4586-B465-E16F6286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0E455-A70D-4B01-8F9E-ACC66657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09F27-AE9C-4940-8EC9-20851A78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E33D8-849F-4587-9AC2-9DCA2298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B54997-B8C7-4306-961F-CE60A03D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26F9F-5F14-405F-99B6-DD76897D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9AF003-6A75-4216-BFBC-54FDE1A1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4D48C-70DF-40DC-B18B-F422983F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2C5A2-34D6-4BB9-BA04-FD985B85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C1F8-B824-4C41-A01E-AA9DEBA7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B68A7F-8C77-4257-922B-9578B3B2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FCD64-86A3-4AD3-BF19-C00C5A67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97B9BF-4E00-4C81-86B2-BFC3EC6A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AEF9C5-167B-40C4-BAB9-F6DF19D2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EF0CED-3B7B-4522-BD20-BAC27C2E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E38A2-B49D-4A92-8796-3205404A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8EF4E5-BD79-4C82-BE8A-0FFA0D3A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E629BD-41FF-4412-99D6-116F8410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8DF00-C18B-40C7-9EE9-1EC71A48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C0023C-336A-410A-8197-7991081B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8FB1-03FD-425D-981F-A2C176EC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EEF5C5-5D42-45F9-9D55-83E0D381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B416BF-E2E6-4527-A289-4F2F7886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C9EB1C-B1EB-4E01-9A6E-B50D76EB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DB37A5-FB2F-4B38-B45D-5A097185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291F05-1D97-4750-BB24-B44ED877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C91F9-6A34-4079-AAA9-B6FBB37C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718747-A023-4FC9-AD69-6636A10D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5324DF-E80F-4E0D-B00F-B9F6E312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E60453-B361-4A82-932E-7E35558C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1BCFA5-1D47-4DAC-A8CF-18D35496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3127-E2AB-4C3C-B5BF-F7AF6622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7BE618-D7C4-4556-BD63-C4812882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867176-0862-4E10-96A8-BC463BC0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B49DFF-D785-4B35-8B12-076FD03C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3B8768-F32B-4416-A47B-DB7FA3B4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138DD4-A696-45C9-AD71-0B957186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7E02A7-E4AF-4FA3-BC13-8B7A4B53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674633-B8E8-4452-A87F-22E1AC88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15BF3D-9B5B-4FAB-83B9-1A20C47B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E9D98A-1C66-455C-A2E9-870E7F02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E1F2FF-C0EE-4567-8A9E-2FBAF7B8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524F-E3A0-4E00-9F90-31387C8F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074C75-A585-477D-9E39-686453C7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18F80-82AF-455E-9C18-194C9BF2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9602EB-8F87-4004-BA60-983846CD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F3319B-7E36-4276-83B7-54607396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096482-4D59-4CD9-BBC3-6B59963E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16D4FA-F863-481B-8176-DEA6C3B5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D8E8E4-7B2C-458A-8A4C-0DFFB4F0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8EDFBF-D7D5-4A2A-A67D-5B29FEFA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943D5A-7C6E-4DC5-94DE-23DC37B7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24F114-E856-4DC9-A027-BC8F5F89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C485-AC10-4221-90D1-720F3ACA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7928-CAA3-4BB3-A406-7D0A0152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1A6169-B0CC-408C-9CEC-2468C5AD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3238B6-DF33-4EAC-A6C5-51BCE852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8AF14A-BD51-443C-A8E4-C5BCE305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E5242E-14A1-46D5-8F84-41DB9ABD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AFB339-2072-4165-8A80-6B059B73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B8EB4A-F1D2-48C7-A219-571A2E46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165A17-341E-42DA-9F58-473E39A0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921555-E715-45E0-A3B3-A42844A4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4755B6-F28A-426A-A8DB-CAF6C799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F84C70-5AD4-4731-A990-BD36B484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4D88-D21A-4468-9DC2-81CD282D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952B50-1FEF-43B7-AFB1-43B5EF7C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2D82FD-41FA-46CA-B6B8-EE13284F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50A184-497A-4F3E-B7C2-11940655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248789-D82F-419E-B9C5-D60A20B4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3B5517-E3B5-453D-B9ED-63BBC4AC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7AD1D8-AFC9-4942-9854-F55DD95E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71F67A-213A-4FEF-98AC-6BBF6801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49D3-12C8-4ACB-85FA-747958C8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6279-4969-420D-A27F-022F2390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98C3-2E5B-43D2-8C03-00D7FAA0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A04A009-84F4-4BDC-BC33-95BFC68C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5CEBA61-125A-4C40-9304-0F64724E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CB03B3E-E643-44EC-B7E2-9C8B781B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095C10C-DEFF-4045-9EF4-8360984A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92F2E32-C090-4AF2-8BF4-236438DF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2182968-95E4-4DB9-8457-5CFB5A97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A05A8C5-8FC6-4CD0-A6A4-C78C9D0D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5051AF3-993F-4652-ABD5-24C30AD6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AC7B6E6-77C9-4CDC-80F5-DD19314D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56EF2-C943-4067-802D-B9F72D79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792C340-C140-480D-93CD-1E54B745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D2F90EF-9C4C-4A7D-B0E6-36E71F55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E3608C5-924D-4460-B99C-D910B6F4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5892D39-E958-4279-AF70-283D6C68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67D084E-3BC4-481D-880F-5A1160DC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0C84CBF-438E-4800-B6B2-C099F8FA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5113E06-CB37-4195-8A04-B53F584B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D6D1A77-8B3D-4FB4-B1F9-10DD9BB0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BCA65B7-9829-4B28-B7A7-475D2759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3DABE57-E37C-4E76-A93F-8DAECC13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B0C0D-27DF-4988-8E41-0275378E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176984B-E72E-4227-B914-EDDE39D6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B818047-3956-45D2-9F77-50E9AE71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45F9358-01FF-4B37-980D-61130170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960D36A-0A56-47FA-86E6-C838E4D5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BB06945-F90E-49D6-851D-8954A8DA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EB09ED2-3CFA-4C73-949E-C4BC21FC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EC930FC-DE49-4471-813C-2344C890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F397B4B-6EED-4051-A216-65D39C05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17D8B3D-B084-402E-9856-1C15C530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9D275D1-3468-4DE6-A810-FD6BBD4D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35914-2695-49EB-957E-45606CB7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AE23590-2238-4D7E-A89B-0A867BB2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D316E8C-01E8-43C5-B128-8FB0641A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8821D03-9ED8-4FDC-9753-FF5CB1E2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2674923-1BF5-4043-8FAB-BA4F0733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6F83630-C384-441A-A6A0-1F80EC9E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D0D819A-E6DB-4541-99AF-415F996E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62ED8A7-78D7-4059-94D0-FC418EF5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16FC252-5E7F-445A-A359-96D4CFB7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C1A742E-462F-409F-A205-D1074E4F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00E8810-C404-47D5-BCC3-81597907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EE40A-AA34-4452-A275-3A89053A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8D41EA2-466B-4BBA-AC0C-4573568C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AB2126A-CDA2-457C-970B-32A4C9CC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DADB144-A6B1-4F07-84BD-4EAD639E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1992328-4F31-4082-BAA6-B75A9519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3301473-0F9F-4F60-A072-058DABB2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5E92DD7-E3B3-4F68-BDF2-F2D05450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F5B129B-D1F1-478D-9933-D3B4A9DD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436FF98-24A1-4DD6-B057-9CB63E5C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AE09171-AEAD-4A3C-92DD-2E19B406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B25AF-7D43-4C39-8189-BEF544C1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892-DEC3-4F77-BE09-313223B2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BB2F9-21C2-46AD-AA6D-9B17102A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FC1F9-DCE1-4CD6-96C0-E3B9640E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93FDB-90C8-4951-AA6A-99626D3B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101C6-328B-4EF0-BA4C-7C110C89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A67A0-9E73-4942-B3BA-B6163938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337B0-71DB-4790-B70F-373F93CC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D6444-7B6D-482C-9814-1D04356A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74552-3699-4F6D-B88B-75CF44B9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7064B-3D95-4933-9CEE-1B358255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C384A-7410-4188-8E0B-8A588FB5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839-85DE-4F71-957F-216E01E7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9257B-09F0-4B49-9444-1563968C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B35B9-654C-405F-829B-C39FDCC7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06B18-F754-47C7-A618-47CD611C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8F6FF-E4E5-4EFD-BD86-A6CA5684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6AFBF-D96B-49EC-A5BD-3AE72954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FCD82-BCC4-48E1-818A-9B958D7F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D61F4-33F8-4784-BA4D-533E4D1E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9A281-F8EE-4E75-B1A0-A8A350DF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33916-5689-4022-B5E0-8A9766AF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C6256-188F-46D0-AB64-38BC6EA1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94E-A409-4EE7-8702-2DE34316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F2047-4892-4D7B-A67C-C1B07050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29091-71C0-4A33-AAC3-FFBE46FE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302BE-DDBD-4506-ADA0-C7BEBFEC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197A7-253A-407A-BDBA-BE6DB92E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9CB1F-F26C-4A2B-AE52-EEC7A227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84110-AE67-4086-AFE3-73951C76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0F847-7C4C-41E8-9A7C-B5C89F8C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59CFA-FCE8-4138-B287-C624AE96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D602A-B21B-4BC4-BF6F-AE2C6045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34B78-520C-4EC1-B398-59E37642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1AD-7815-4C1A-98D1-515922E5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3A78F-4BF8-46BA-9605-7A2E8A0D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D800A-1FC3-4731-B008-4A6B33ED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A349A-A4D5-48CC-9353-791F53D6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BE39C-5361-41C9-9862-F044BE80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48512-D8D9-4F6E-B8B8-9E5E2BEE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ECD27-84F2-49AA-AF3B-BCCA1137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4F5C5-FFFC-4CE9-AF4E-9ABEFE12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9C5F6-CA40-48DF-8327-8E878C8D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87DD3-7038-462A-8BFE-1EF494EB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5DD6D-31ED-4085-B4F9-76F5A5A9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1B3-9F58-42DB-A1A8-B6E0AC31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AE07B-9AB9-47D5-9257-5FE62DFB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1F3BA-5CFC-4842-96DC-C68B4555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A0B25-4797-4CFB-B10C-3633B4C4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10823-128D-4E5C-974A-A4AB43C8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C7CD2-41DC-4C5E-946E-ED4E2498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930E7-9EC3-4967-BDBA-B6643A4E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68B45-88C7-4F3C-B7E3-497F470E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C2745-C5F8-4739-B329-0709DC9B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06EE7-D3D5-44FA-8BD6-734BCF60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66140-9E6C-46FA-8059-99C58073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9C6-FCD2-4D2E-B98E-4263D009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04B4A-D6FA-47A8-981D-B805D019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A9820-423A-466C-9202-6EC631DA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AC4D2-DA7B-472B-93B7-A971E7DF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DFD1A-9945-496D-85A9-A119A534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3EC21-EB14-4D60-963E-398B1970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DF8B4-C403-47D8-B17A-95823219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91B29-F7CC-4511-9E8B-D13C4985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761A2-3F6E-4391-9382-247D5356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1DA45-15F7-4839-A327-83B81B95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D29CD-4A5F-4625-9909-90F8E8A7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8A3-865B-4EC1-B08A-FB61E075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78009-2B5E-4634-A293-9BE8B31C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95E85-D8E7-4A9B-BFB0-D527D01D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E6B37-7EC2-474F-A121-80D6FD85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C8DF4-2C0E-4D34-885B-BF3EC53F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A164F-FBD1-4892-9A87-DCB9C40A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957A4-4CD9-4CE9-8508-394EBDE6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C135F-ABB9-40B3-9456-9E93E2BD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7C124-8E6E-42F1-A059-29CB0F50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CB3F7-E5EB-45AC-BD6C-BE41E1DA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601F0-741B-400C-8EB8-D1A5C200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A276-0EAC-4FF3-BA47-EFDA2C9BF4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wireframeOverlay-Home.png"/>
          <p:cNvPicPr/>
          <p:nvPr/>
        </p:nvPicPr>
        <p:blipFill>
          <a:blip r:embed="rId5"/>
          <a:srcRect l="0" t="-93970" r="0" b="0"/>
          <a:stretch/>
        </p:blipFill>
        <p:spPr>
          <a:xfrm>
            <a:off x="179280" y="1182600"/>
            <a:ext cx="8786880" cy="5276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DirectionalButtons-RightOnly.png"/>
          <p:cNvPicPr/>
          <p:nvPr/>
        </p:nvPicPr>
        <p:blipFill>
          <a:blip r:embed="rId6"/>
          <a:stretch/>
        </p:blipFill>
        <p:spPr>
          <a:xfrm>
            <a:off x="7821720" y="53352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D4CC-A334-4B69-9414-CACDF2B5CB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E60B-481C-4584-B43C-E5D6043401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8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C760-B0FC-4BD2-9869-656BBB1FE3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1B0A-B280-4866-B738-F7A20000A8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7DC8-6098-44BA-8B31-28EFB97961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4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4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4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A93C-A188-405B-9906-9A70641B87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BA54-8567-4F77-A636-2785C36577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8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4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5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5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3B23-77C8-4ACB-8D62-5BCA76CF4A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0EFE-2803-4AC0-8F15-39E6D0F33E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5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5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3AB5-D81B-4E0D-AF24-8D82592E01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8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5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5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F3B1-CFEA-47E7-83F4-BD62C20D1E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6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6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B821-7376-4AF2-AA95-E8D7FA4E58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8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6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6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6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4EE9-BDE2-48C0-A1B1-1F183A3F06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1030" name="Rectangle 8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10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6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6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7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BCBE-5CEC-4B19-AC13-68B9F662C9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95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AB39-C966-416C-B7E0-B2AEC449DF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5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18C0-0F60-41FE-AC40-D90AA4465F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1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C352-336E-4F28-96AC-79FB38CBB8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0D64-547D-4874-8E28-7346449496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6788-778B-4B14-8F83-E91FD73ACE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650E-223A-4C73-8331-1AA48F169A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67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0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7017-CCED-4800-996C-8B7A780884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17600" y="2168640"/>
            <a:ext cx="8307360" cy="103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BUSINESS &amp; INTERNET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761760" y="3809880"/>
            <a:ext cx="79628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2f2f2"/>
                </a:solidFill>
                <a:latin typeface="Calibri"/>
              </a:rPr>
              <a:t>By 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2f2f2"/>
                </a:solidFill>
                <a:latin typeface="Calibri"/>
              </a:rPr>
              <a:t>Pablo, Duy and Tao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9CDF-B76A-49ED-AD7A-FE805A633F81}" type="datetime">
              <a:rPr b="0" i="1" lang="en-US" sz="3100" spc="-1" strike="noStrike">
                <a:solidFill>
                  <a:srgbClr val="f2f2f2"/>
                </a:solidFill>
                <a:latin typeface="Calibri"/>
              </a:rPr>
              <a:t>07/29/26</a:t>
            </a:fld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-COMMER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Defini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Utiliti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</a:t>
            </a: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pecific field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15440" y="68544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E-COMMER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onsists of the </a:t>
            </a:r>
            <a:r>
              <a:rPr b="0" lang="en-US" sz="3600" spc="-1" strike="noStrike">
                <a:solidFill>
                  <a:srgbClr val="248aea"/>
                </a:solidFill>
                <a:latin typeface="Calibri"/>
              </a:rPr>
              <a:t>buy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and </a:t>
            </a:r>
            <a:r>
              <a:rPr b="0" lang="en-US" sz="4000" spc="-1" strike="noStrike">
                <a:solidFill>
                  <a:srgbClr val="008000"/>
                </a:solidFill>
                <a:latin typeface="Calibri"/>
              </a:rPr>
              <a:t>sell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f </a:t>
            </a:r>
            <a:r>
              <a:rPr b="0" lang="en-US" sz="3600" spc="-1" strike="noStrike">
                <a:solidFill>
                  <a:srgbClr val="e03133"/>
                </a:solidFill>
                <a:latin typeface="Calibri"/>
              </a:rPr>
              <a:t>product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5f0eaa"/>
                </a:solidFill>
                <a:latin typeface="Calibri"/>
              </a:rPr>
              <a:t>service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ver </a:t>
            </a:r>
            <a:r>
              <a:rPr b="0" lang="en-US" sz="3600" spc="-1" strike="noStrike">
                <a:solidFill>
                  <a:srgbClr val="ff6600"/>
                </a:solidFill>
                <a:latin typeface="Calibri"/>
              </a:rPr>
              <a:t>electronic systems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uch as the Internet and other computer networks (en.Wikipedia.org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9" name="AutoShape 2"/>
          <p:cNvSpPr/>
          <p:nvPr/>
        </p:nvSpPr>
        <p:spPr>
          <a:xfrm>
            <a:off x="457200" y="2057400"/>
            <a:ext cx="8308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AU" sz="3600" spc="-1" strike="noStrike">
                <a:solidFill>
                  <a:srgbClr val="ffffff"/>
                </a:solidFill>
                <a:latin typeface="Calibri"/>
                <a:ea typeface="MS PGothic"/>
              </a:rPr>
              <a:t>What is E-commer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Utiliti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Electronic funds transfer (EFT)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Supply chain management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Internet Marketing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Online transaction processing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Electronic data interchange (EDI)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Inventory management systems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Automated data collection system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2" name="AutoShape 2"/>
          <p:cNvSpPr/>
          <p:nvPr/>
        </p:nvSpPr>
        <p:spPr>
          <a:xfrm>
            <a:off x="41580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  <a:ea typeface="MS PGothic"/>
              </a:rPr>
              <a:t>E-COMME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Picture 4" descr="Errores-comunes-del-SEO-B2B.jpg"/>
          <p:cNvPicPr/>
          <p:nvPr/>
        </p:nvPicPr>
        <p:blipFill>
          <a:blip r:embed="rId2"/>
          <a:stretch/>
        </p:blipFill>
        <p:spPr>
          <a:xfrm>
            <a:off x="4495680" y="3124080"/>
            <a:ext cx="384192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pecific fiel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5" name="Content Placeholder 2" descr=""/>
          <p:cNvPicPr/>
          <p:nvPr/>
        </p:nvPicPr>
        <p:blipFill>
          <a:blip r:embed="rId2"/>
          <a:stretch/>
        </p:blipFill>
        <p:spPr>
          <a:xfrm>
            <a:off x="407880" y="2749680"/>
            <a:ext cx="8321760" cy="3504960"/>
          </a:xfrm>
          <a:prstGeom prst="rect">
            <a:avLst/>
          </a:prstGeom>
          <a:ln w="0">
            <a:noFill/>
          </a:ln>
        </p:spPr>
      </p:pic>
      <p:sp>
        <p:nvSpPr>
          <p:cNvPr id="1116" name="AutoShape 2"/>
          <p:cNvSpPr/>
          <p:nvPr/>
        </p:nvSpPr>
        <p:spPr>
          <a:xfrm>
            <a:off x="41580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  <a:ea typeface="MS PGothic"/>
              </a:rPr>
              <a:t>E-COMME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6" descr="diagram_supplychain.jpg"/>
          <p:cNvPicPr/>
          <p:nvPr/>
        </p:nvPicPr>
        <p:blipFill>
          <a:blip r:embed="rId3"/>
          <a:stretch/>
        </p:blipFill>
        <p:spPr>
          <a:xfrm>
            <a:off x="4038480" y="2743200"/>
            <a:ext cx="41148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415440" y="2437920"/>
            <a:ext cx="789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INTERNET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Important tool for business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Made business easier and faster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Have changed the way how companies encourage consumers 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404040"/>
                </a:solidFill>
                <a:latin typeface="Calibri"/>
              </a:rPr>
              <a:t>FUTURE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Companies working only through internet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Non presential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Online office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FERENCE LI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ikipedia – E-commerce”, http://en.wikipedia.org/wiki/E-commerce , 22/05/2010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ikipedia – Internet”, http://en.wikipedia.org/wiki/Internet , 22/05/2010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Ultimosoft – Supply chain”, http://www.ultimosoft.com/industry/supplychain.html, 24/05/2010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(*) : by Carol L. Cook; “How Computers Have Simplified Accounting”; http://www.yale.edu/ynhti/curriculum/units/1989/7/89.07.06.x.html#e; 18/05/10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44040" y="990360"/>
            <a:ext cx="225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EN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1143000" y="4038480"/>
            <a:ext cx="65419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b86"/>
                </a:solidFill>
                <a:latin typeface="Calibri"/>
              </a:rPr>
              <a:t>THANK YOU FOR LISTENING!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.=!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124" name="Picture 4" descr="pirate63"/>
          <p:cNvPicPr/>
          <p:nvPr/>
        </p:nvPicPr>
        <p:blipFill>
          <a:blip r:embed="rId2"/>
          <a:stretch/>
        </p:blipFill>
        <p:spPr>
          <a:xfrm>
            <a:off x="2878200" y="228600"/>
            <a:ext cx="29131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ternet Introdu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odern us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onclus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feren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ternet Introdu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ternet Histo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RPA (Advanced Research Project Agency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 Foundation of Interne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6858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RPANE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CP (Transmission Control Protocol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Internet”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dern 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ACCOU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E-COMMERC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Defini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Old method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Use of computer and internet in Accou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15440" y="2057400"/>
            <a:ext cx="830916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What is Accounting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ART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f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record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lassify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and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ummariz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in a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significant manner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nd in terms of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money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transaction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and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event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which are, in part at least, of </a:t>
            </a:r>
            <a:r>
              <a:rPr b="0" lang="en-US" sz="3200" spc="-1" strike="noStrike">
                <a:solidFill>
                  <a:srgbClr val="3c653c"/>
                </a:solidFill>
                <a:latin typeface="Calibri"/>
              </a:rPr>
              <a:t>financial character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and </a:t>
            </a:r>
            <a:r>
              <a:rPr b="0" lang="en-US" sz="2800" spc="-1" strike="noStrike">
                <a:solidFill>
                  <a:srgbClr val="3c653c"/>
                </a:solidFill>
                <a:latin typeface="Calibri"/>
              </a:rPr>
              <a:t>interpreting the results thereof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(AICPA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092" name="Picture 5" descr="MoneyChart.jpg"/>
          <p:cNvPicPr/>
          <p:nvPr/>
        </p:nvPicPr>
        <p:blipFill>
          <a:blip r:embed="rId2"/>
          <a:stretch/>
        </p:blipFill>
        <p:spPr>
          <a:xfrm>
            <a:off x="5572080" y="214200"/>
            <a:ext cx="3286080" cy="1704960"/>
          </a:xfrm>
          <a:prstGeom prst="rect">
            <a:avLst/>
          </a:prstGeom>
          <a:ln w="0">
            <a:noFill/>
          </a:ln>
        </p:spPr>
      </p:pic>
      <p:sp>
        <p:nvSpPr>
          <p:cNvPr id="1093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nual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 bookkeeper kept the journals, the accounts receivable, the accounts payable and the ledgers in his best possible penmanship</a:t>
            </a:r>
            <a:r>
              <a:rPr b="0" lang="en-US" sz="2000" spc="-1" strike="noStrike" baseline="30000">
                <a:solidFill>
                  <a:srgbClr val="404040"/>
                </a:solidFill>
                <a:latin typeface="Calibri"/>
              </a:rPr>
              <a:t>(*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096" name="Picture 6" descr="Accounting[1].jpg"/>
          <p:cNvPicPr/>
          <p:nvPr/>
        </p:nvPicPr>
        <p:blipFill>
          <a:blip r:embed="rId2"/>
          <a:stretch/>
        </p:blipFill>
        <p:spPr>
          <a:xfrm>
            <a:off x="1357200" y="3929040"/>
            <a:ext cx="7072560" cy="2428920"/>
          </a:xfrm>
          <a:prstGeom prst="rect">
            <a:avLst/>
          </a:prstGeom>
          <a:ln w="0">
            <a:noFill/>
          </a:ln>
        </p:spPr>
      </p:pic>
      <p:sp>
        <p:nvSpPr>
          <p:cNvPr id="1097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Computerise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One of the first accounting programs was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Lotus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1-2-3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(1983)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mall test</a:t>
            </a:r>
            <a:r>
              <a:rPr b="0" lang="en-US" sz="2400" spc="-1" strike="noStrike" baseline="30000">
                <a:solidFill>
                  <a:srgbClr val="404040"/>
                </a:solidFill>
                <a:latin typeface="Calibri"/>
              </a:rPr>
              <a:t>(*)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00" name=""/>
          <p:cNvGraphicFramePr/>
          <p:nvPr/>
        </p:nvGraphicFramePr>
        <p:xfrm>
          <a:off x="2743200" y="3627360"/>
          <a:ext cx="5553000" cy="2773440"/>
        </p:xfrm>
        <a:graphic>
          <a:graphicData uri="http://schemas.openxmlformats.org/drawingml/2006/table">
            <a:tbl>
              <a:tblPr/>
              <a:tblGrid>
                <a:gridCol w="2751120"/>
                <a:gridCol w="2801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-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 minutes to set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 minutes to perform the compu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 seconds to load the spreadsh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minutes to input the inform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ss than one second for it to be tabulated and prin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</a:tbl>
          </a:graphicData>
        </a:graphic>
      </p:graphicFrame>
      <p:sp>
        <p:nvSpPr>
          <p:cNvPr id="1101" name="AutoShape 2"/>
          <p:cNvSpPr/>
          <p:nvPr/>
        </p:nvSpPr>
        <p:spPr>
          <a:xfrm>
            <a:off x="38088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ternet and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4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3:50:56Z</dcterms:created>
  <dc:creator>Microsoft</dc:creator>
  <dc:description/>
  <dc:language>en-US</dc:language>
  <cp:lastModifiedBy>Test User</cp:lastModifiedBy>
  <dcterms:modified xsi:type="dcterms:W3CDTF">2010-05-25T01:17:38Z</dcterms:modified>
  <cp:revision>36</cp:revision>
  <dc:subject/>
  <dc:title>Internet</dc:title>
</cp:coreProperties>
</file>